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1A9-0026-4F8A-A86C-B1619202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9DB-4CD5-45C3-A2E9-CA0913F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69F-DC52-449A-97AB-0ADE3B46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636-7C9C-4FE7-AD7D-FE364B93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588-63DA-47EC-9C5E-1F821BCE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D8C-B4EC-4F06-A0E3-2B161929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AC1-B4DB-4792-9F3E-BF27C7FB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E15-0812-4E8E-ADD2-CB0E0FB7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C4C-9261-43AF-800E-73242968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B98-7484-4E32-8F76-78FBB04D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EA7-2846-4D7A-B8D9-B92B2BC9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59D-11E5-42D6-B828-BABF9511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7AB8-0538-4C07-B667-56772C41CEB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4f81bd"/>
                </a:solidFill>
                <a:latin typeface="Calibri"/>
              </a:rPr>
              <a:t>La chanson de la maison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une: I’m forever blowing bubb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C:\Documents and Settings\Teacher\Local Settings\Temporary Internet Files\Content.IE5\LT11213H\MCj04362090000[1].png"/>
          <p:cNvPicPr/>
          <p:nvPr/>
        </p:nvPicPr>
        <p:blipFill>
          <a:blip r:embed="rId1"/>
          <a:stretch/>
        </p:blipFill>
        <p:spPr>
          <a:xfrm>
            <a:off x="7643880" y="4552920"/>
            <a:ext cx="860400" cy="1860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Je suis dans la salle à manger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Tu es dans la salle de bai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ma soeur Céline, est dans la cuisine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Mon frère Alain, est dans le jard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Nous sommes dans la chambre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Vous êtes là aussi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Mes parents sont dans le salon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Et le chat est sous mon lit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3" descr="C:\Documents and Settings\Teacher\Local Settings\Temporary Internet Files\Content.IE5\LT11213H\MCj02796540000[1].wmf"/>
          <p:cNvPicPr/>
          <p:nvPr/>
        </p:nvPicPr>
        <p:blipFill>
          <a:blip r:embed="rId2"/>
          <a:stretch/>
        </p:blipFill>
        <p:spPr>
          <a:xfrm>
            <a:off x="6357960" y="3632040"/>
            <a:ext cx="29084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35 -0.39431 C -0.02014 -0.43686 -0.01059 -0.50439 -0.02413 -0.54024 C -0.02639 -0.55504 -0.03211 -0.56637 -0.0368 -0.57979 C -0.0401 -0.58904 -0.04236 -0.59736 -0.0467 -0.60592 C -0.04965 -0.62234 -0.04548 -0.60546 -0.05243 -0.6191 C -0.05607 -0.62627 -0.0552 -0.63228 -0.06076 -0.63969 C -0.06666 -0.65611 -0.07291 -0.66212 -0.08333 -0.67345 C -0.10277 -0.69473 -0.11475 -0.69889 -0.13975 -0.70167 C -0.14861 -0.70467 -0.15764 -0.70444 -0.16649 -0.70722 C -0.19566 -0.70606 -0.22465 -0.70537 -0.25382 -0.70352 C -0.26007 -0.70305 -0.275 -0.69033 -0.27916 -0.68663 C -0.28194 -0.68409 -0.2875 -0.67923 -0.2875 -0.67923 C -0.28854 -0.67738 -0.28923 -0.67507 -0.29045 -0.67345 C -0.29166 -0.67183 -0.29375 -0.6716 -0.29461 -0.66975 C -0.29705 -0.66512 -0.29774 -0.65934 -0.30017 -0.65472 C -0.3033 -0.6487 -0.30711 -0.64408 -0.31007 -0.63784 C -0.31128 -0.63159 -0.31319 -0.62535 -0.31423 -0.6191 C -0.31527 -0.61355 -0.31718 -0.60222 -0.31718 -0.60222 C -0.32673 -0.61078 -0.33628 -0.62072 -0.3467 -0.62673 C -0.35677 -0.64015 -0.39357 -0.66559 -0.40868 -0.6716 C -0.41927 -0.67576 -0.43038 -0.67761 -0.44114 -0.68108 C -0.47257 -0.68039 -0.50399 -0.68039 -0.53541 -0.67923 C -0.54531 -0.67877 -0.55017 -0.66744 -0.55798 -0.66235 C -0.57205 -0.6531 -0.58698 -0.63876 -0.60156 -0.63228 C -0.60625 -0.62627 -0.61111 -0.62165 -0.6158 -0.6154 C -0.61979 -0.61008 -0.62222 -0.60453 -0.62691 -0.60037 C -0.63038 -0.59389 -0.63159 -0.58164 -0.63402 -0.57794 C -0.63802 -0.57239 -0.63611 -0.57539 -0.63975 -0.56846 C -0.6533 -0.59181 -0.63593 -0.56337 -0.65382 -0.58719 C -0.6651 -0.60222 -0.65625 -0.59574 -0.66927 -0.60985 C -0.67135 -0.61216 -0.67413 -0.61309 -0.67621 -0.6154 C -0.67986 -0.61933 -0.68281 -0.62419 -0.68611 -0.62858 C -0.69166 -0.63599 -0.70868 -0.64315 -0.71718 -0.64547 C -0.72916 -0.65333 -0.74236 -0.65402 -0.7552 -0.65865 C -0.77968 -0.65726 -0.79288 -0.65587 -0.81423 -0.65102 C -0.8243 -0.63853 -0.80885 -0.65726 -0.82135 -0.64362 C -0.82361 -0.64107 -0.82448 -0.63668 -0.82691 -0.63414 C -0.82812 -0.63298 -0.82986 -0.63298 -0.83125 -0.63228 C -0.83559 -0.6235 -0.84166 -0.62118 -0.84809 -0.6154 C -0.86944 -0.55828 -0.85243 -0.48774 -0.85086 -0.42391 C -0.85069 -0.41952 -0.8427 -0.40981 -0.83975 -0.40911 C -0.83368 -0.40749 -0.82743 -0.40772 -0.82135 -0.40703 C -0.82187 -0.39269 -0.821 -0.37812 -0.82274 -0.36425 C -0.82291 -0.36332 -0.82951 -0.3617 -0.83264 -0.36031 C -0.85 -0.35361 -0.83246 -0.35731 -0.86076 -0.35453 C -0.86145 -0.35222 -0.86354 -0.34413 -0.86354 -0.34158 C -0.86354 -0.32655 -0.86336 -0.31152 -0.86215 -0.29648 C -0.86111 -0.2833 -0.82968 -0.28353 -0.82691 -0.2833 C -0.82795 -0.27197 -0.82916 -0.26226 -0.83125 -0.25139 C -0.83159 -0.24954 -0.83142 -0.24699 -0.83264 -0.24584 C -0.83732 -0.24144 -0.85121 -0.24075 -0.8552 -0.24006 C -0.85781 -0.22942 -0.85989 -0.21901 -0.8651 -0.21022 C -0.86666 -0.19796 -0.87239 -0.15703 -0.86354 -0.15009 C -0.85902 -0.14662 -0.84461 -0.14639 -0.84392 -0.14639 C -0.83455 -0.14223 -0.83715 -0.12835 -0.83975 -0.11633 C -0.84027 -0.11425 -0.84253 -0.11378 -0.84392 -0.11286 C -0.85104 -0.10731 -0.85989 -0.10569 -0.86788 -0.10338 C -0.87014 -0.07354 -0.87934 -0.03515 -0.86649 -0.00971 C -0.86597 -0.00324 -0.86649 0.00347 -0.8651 0.00925 C -0.86441 0.01249 -0.86198 0.01411 -0.86076 0.01688 C -0.85781 0.02336 -0.8585 0.03053 -0.8552 0.03747 C -0.85312 0.04602 -0.8493 0.05273 -0.84392 0.05805 C -0.84132 0.06522 -0.84027 0.07216 -0.8368 0.07886 C -0.83402 0.08996 -0.83038 0.09112 -0.82274 0.09574 C -0.80573 0.10569 -0.79496 0.1087 -0.77621 0.11055 C -0.74809 0.10985 -0.72569 0.10962 -0.69878 0.10685 C -0.69687 0.10661 -0.68038 0.10384 -0.67777 0.10291 C -0.67152 0.10153 -0.65937 0.09759 -0.65937 0.09759 C -0.64687 0.08649 -0.62882 0.08349 -0.61423 0.07886 C -0.58975 0.05712 -0.5802 0.08302 -0.56215 0.09204 C -0.54982 0.10846 -0.53455 0.11425 -0.51718 0.1161 C -0.50034 0.11517 -0.48333 0.11471 -0.46649 0.1124 C -0.46354 0.11193 -0.45798 0.10893 -0.45798 0.10893 C -0.45104 0.09898 -0.44149 0.09598 -0.43264 0.08996 C -0.43107 0.08904 -0.42986 0.08765 -0.42847 0.08626 C -0.42743 0.08488 -0.42673 0.08349 -0.42552 0.08256 C -0.42135 0.07932 -0.41614 0.07678 -0.41145 0.07493 C -0.41093 0.07493 -0.39566 0.07724 -0.39323 0.07886 C -0.3901 0.08071 -0.38802 0.08488 -0.38472 0.08626 C -0.38333 0.08696 -0.38194 0.08742 -0.38055 0.08811 C -0.37534 0.09528 -0.36805 0.09598 -0.36076 0.09759 C -0.35902 0.10638 -0.35746 0.10985 -0.35086 0.1124 C -0.3434 0.1191 -0.33541 0.12188 -0.32691 0.12558 C -0.32413 0.12697 -0.31857 0.12951 -0.31857 0.12951 C -0.3026 0.12835 -0.28663 0.12812 -0.27066 0.12558 C -0.26163 0.12419 -0.25295 0.1124 -0.24531 0.10685 C -0.23906 0.09436 -0.2375 0.08117 -0.23402 0.06753 C -0.23229 0.04556 -0.23368 0.0562 -0.22986 0.03562 C -0.22534 0.0111 -0.22864 0.00069 -0.21284 -0.01688 C -0.21076 -0.0192 -0.20955 -0.02243 -0.20729 -0.02428 C -0.20156 -0.02914 -0.19375 -0.02914 -0.1875 -0.03191 C -0.18281 -0.03145 -0.17795 -0.03145 -0.17343 -0.03006 C -0.16753 -0.02821 -0.16875 -0.02012 -0.1651 -0.01503 C -0.16145 -0.01064 -0.15868 -0.0111 -0.15382 -0.00971 C -0.1427 -0.00185 -0.1309 0.00023 -0.11857 0.00162 C -0.11232 0.00463 -0.10625 0.00925 -0.10017 0.01295 C -0.09392 0.02151 -0.09791 0.01781 -0.0875 0.02243 C -0.08611 0.0229 -0.08333 0.02428 -0.08333 0.02428 C -0.07031 0.02336 -0.05069 0.02914 -0.03819 0.01688 C -0.0368 0.01549 -0.03663 0.01295 -0.03541 0.0111 C -0.0342 0.00971 -0.03264 0.00879 -0.03125 0.0074 C -0.02777 0.00069 -0.0177 -0.01156 -0.0158 -0.01688 C -0.01128 -0.02914 -0.00902 -0.03793 -0.0059 -0.05088 C -0.00625 -0.07123 0.00105 -0.14223 -0.02274 -0.16351 C -0.02639 -0.17761 -0.021 -0.16004 -0.02847 -0.17253 C -0.03663 -0.18594 -0.0217 -0.17114 -0.03402 -0.18201 C -0.03715 -0.19866 -0.03316 -0.18247 -0.03819 -0.19334 C -0.03889 -0.19519 -0.03975 -0.19889 -0.03975 -0.19889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45:47Z</dcterms:created>
  <dc:creator>Teacher</dc:creator>
  <dc:description/>
  <dc:language>en-US</dc:language>
  <cp:lastModifiedBy>hpb</cp:lastModifiedBy>
  <dcterms:modified xsi:type="dcterms:W3CDTF">2010-02-24T12:55:53Z</dcterms:modified>
  <cp:revision>3</cp:revision>
  <dc:subject/>
  <dc:title>La chanson de la maison</dc:title>
</cp:coreProperties>
</file>